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37D-6E40-4025-9B0E-A170C488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C17-72EB-417E-88C3-02479E68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AE0-D237-47B0-A633-ADA37170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F95-4152-4512-A6F3-C43BEB00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257-4473-4CD4-853A-A360C77F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3C6-D4B9-45CB-ACA6-AE0CDB04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5CE-5B35-4C7A-A860-56AAB1E1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80E-5A1F-45F0-B517-D95D1488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AC0-8568-4233-A96B-E7B698F4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389E-7178-4848-82DB-0515FE04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DED6-7E81-4DC7-A6AB-1A25C0D1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73DF-0D8E-48B4-9AB1-DC801401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77A5-AA88-44E5-AE66-FAF6EA7F5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55188" descr=""/>
          <p:cNvPicPr/>
          <p:nvPr/>
        </p:nvPicPr>
        <p:blipFill>
          <a:blip r:embed="rId1"/>
          <a:stretch/>
        </p:blipFill>
        <p:spPr>
          <a:xfrm>
            <a:off x="0" y="0"/>
            <a:ext cx="5443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51320" y="0"/>
            <a:ext cx="55314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عالوا إلى الرب يا مثقل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أعباءِ هذه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عالوا ولا تقفوا يائسي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عند يسوع النج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*تعالوا إلى الرب يا خاطئ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قلب يسوع رحيم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فور يرحب بالتائب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يمحو جميع الذنو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0034529" descr=""/>
          <p:cNvPicPr/>
          <p:nvPr/>
        </p:nvPicPr>
        <p:blipFill>
          <a:blip r:embed="rId1"/>
          <a:stretch/>
        </p:blipFill>
        <p:spPr>
          <a:xfrm>
            <a:off x="0" y="0"/>
            <a:ext cx="4630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88480" y="247680"/>
            <a:ext cx="520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الوا إلى الرب يا مثقل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بأعباءِ هذه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الوا ولا تقفوا يائسين 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فعند يسوع النج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556272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عود إليك رحي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أجل الخرا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بذلت دماء فأن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حبيب الشفي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13760" y="2514600"/>
            <a:ext cx="5308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يُرَنَّمُ باسمك عند الشرو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وعند الضحى والغرو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أنت الإله الغفور الرح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لكل أثيمٍ يتو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فيا رب أنت لكل خرو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02:10Z</dcterms:created>
  <dc:creator>USER</dc:creator>
  <dc:description/>
  <dc:language>en-US</dc:language>
  <cp:lastModifiedBy>USER</cp:lastModifiedBy>
  <dcterms:modified xsi:type="dcterms:W3CDTF">2002-10-30T16:05:47Z</dcterms:modified>
  <cp:revision>2</cp:revision>
  <dc:subject/>
  <dc:title>PowerPoint Presentation</dc:title>
</cp:coreProperties>
</file>